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3AE5-0204-4E94-AD4C-D7D8CD3FA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0546-01F4-4C0B-8625-8E733598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9C0A1-4187-4EF6-BA56-06E16447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95DD8D-0B62-41E5-ABC3-CED37B7B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27DB93-A01A-4839-8575-A570F522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BF769-F275-4DA9-A898-0A214F95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8C1A2B-40FC-4503-BA1A-0F828740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6264E-D8B3-49D7-A1E8-0148CDDF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CBE71-02AF-4DEF-84F6-CABDB835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73894-45E6-4687-9A03-2E963A898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2EF1B-9B21-487D-9662-7F96A0C7D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2EF88-D432-4A6B-99EA-53ED23F0F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4DC2-0580-48B8-9ED9-CC48B8C1E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8BE86-A867-4894-A7B1-0F576330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D02768-6F50-4045-B9C7-E012737D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EB209A-395F-4378-96F4-B55D3848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B6C35-6548-46A1-8F02-8681E903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9FA862-43A1-466C-BA37-F341FC44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5B05C-F757-4FE4-BB24-3A371EEE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FFA64-972B-4CE9-8DC7-656058B4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D9188-7EC2-4A99-8889-469503C2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9D95B0-6CCF-4CBA-97E5-4CF9D891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1F09DB-44AE-4D45-8427-4F6FC08C2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D799-AD2D-4484-A7BD-4F4871150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88AFE-8C76-4584-9695-1941A3DF2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3C0F9-F6BC-4E25-87DD-DEFABEDB3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0DB78-D0B9-49C0-8A19-A6A788F9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FB469-CBB0-49D2-AD22-D08B230F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A3BDDF-3AB8-4B64-978B-983D5FDF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E02C4-0B4D-47D5-94D9-8119F1A8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DB6E1-ADD2-4289-9729-26F236E7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17598-A743-4194-BCBE-8C7DBFD2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795EF-CD0E-4519-A769-3245D163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683E8-6496-4DD9-96E3-FA9CADB6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971A-2956-4450-B31D-BF62E07BF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B0751-FA41-4D8C-A3A0-917D0B4D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8283C-02DB-47EA-A4C4-FD52ABF3F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6E3C0-DCB5-4625-9F07-9372CD64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716763-89B8-4F17-A00D-D48D1EE78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FA917A-0B3C-4E49-8A10-F9944ECA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466D1-C039-499E-8CED-28B94C2A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E2D60-5951-4BF4-AC61-084D2E51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F8B16A-B2AD-4A52-B305-69CB59FA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66928D-5A38-4D48-ABA4-147D79BC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073E83-D361-4DD0-8B11-3F7B5474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4181-CBC9-447C-9318-0C2E5184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1EA3C5-D291-478D-9771-21A12458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81E945-604A-40B7-B5E0-F6FA4C38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4884F-C1FF-42D0-A9DA-8328770B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E519AA-6085-47C3-9BC6-EDB376C91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7DEED5-04AD-46C5-AB51-1BC0C29AE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5ABF9D-070C-4E41-918E-2C581BA0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D6410E-B189-4B7D-8130-1689DE9B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801730-1741-485A-B840-A00000E2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6AA49C-A285-4CED-A65B-DF7C8AC8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EB818F-DAEC-439A-AD0B-7FAE2734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DF5A-A2F1-48B3-8C1A-464E683A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DF7F1A-AF00-4756-8B1A-8F936D9B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1E9ED6-0B2A-42ED-8F35-2B3FFC23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847DBA-3F02-4881-A70C-21C764FC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77D9E3-98F3-4680-9DE1-8E1765B4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5E88DA-8F3E-485A-AB99-9FA8D12A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7E0BBC-D241-4A57-A843-4B52DA502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29F544-DB9B-40D1-8D1D-C8342B782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90E514-8B88-4ECE-8606-8FCEF7CCD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594D26-C51B-4B56-AC42-1AFA4169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A19B90-3165-437E-9FF6-F1829D2D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9DB2-E07E-4AE0-95A1-9D3CA7A5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27BB15-232C-4B4D-8AC7-969EA3F7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AAD634-1FC0-4B86-A93C-AC2ED39B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00A267-79F9-4621-BD1B-1F4AFB18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D99FDB-C036-49CA-979E-BD024232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8C853C-46B4-4DB5-99E7-1E64E8C8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7FE008-ACB4-4E66-AF79-0E301EB2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6463E4-668F-4ACB-BB95-5D204FF3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2058F0-408E-4857-96DC-9B88F1D08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6AEBFC-F6AC-4F98-A19A-1D376B1DD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551CDD-6D64-4175-A443-3A0EDAEAE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47DB-3DD4-4441-8E70-F655898E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961901-83E9-4617-8190-B0BBDCCB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5208AF-DA33-44D4-AE23-61C24E66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FEAE86-3373-4F9C-8E13-A326477F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B4141D-8DE2-412C-991A-5BAFE765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4EB9AA-6F53-402A-ADDB-6EAAE201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36E567-A548-4705-91C0-8B121936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E0F7D5-1727-4F4D-AB96-065E16D4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097E73-431E-4498-930E-3F437D83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2CE3DE-E058-4D8D-A841-122DA0A6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7CDA76-DB8C-4CE4-89AC-ABC6C0E53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2077-4138-4196-9FC3-05C3033D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02F2A7-34EC-43CD-9D3B-25EB2FEC9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6C864E-A046-40A4-A609-CF9EE6CBF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439EFC-3F2C-4A62-92B7-33688268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04FAB4-DBB5-49E4-9B97-796149C5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DEA73B-6708-4583-AD0A-B24CE386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C6415C-38CF-44FF-AB43-6B106C5E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A7DC86-6C9D-4C86-B6AF-D7E00A12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BC45DF-230D-48CC-9C9F-5CEC71C9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15EF82-14E6-4D98-BF6C-4CF39CD9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501273-9DB3-4281-91E0-6D926EE7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CC8D-7E90-47DE-B72F-DB819542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E6ECE4-11C1-4F74-8DA3-66C33C5A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D04326-DCD7-4010-88F3-41082B275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72102D-1B5D-4EAA-B029-A368DEC87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8C65A1-ED3C-43CF-B6D8-6250A9D1C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2F238B-FF8E-45D6-A735-DC66E499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9EF756-F77C-43F0-BA52-3AA94D69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28A4C6-E2A9-4F36-9DDF-FB85D510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7B2D0C-B2C0-4983-8F18-D0EC5A62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BFC13E-FFFD-4093-8D8E-D229E918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F82AC3-E94B-4941-B400-A08E7505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606D-6596-41BB-B647-F6084E00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A391-CCBE-4669-88F4-96866EE1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41E2D8-88EE-4A2F-8434-9042A07A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75A308-147E-4479-AD01-A022ED64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8FE5F7-FCCF-4D8B-B002-A0ADEB1A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AF1151-3628-4244-895F-0D878DF2B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F74D41-AC8B-4D29-AA50-5B92613E1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C0CD48-EE51-401F-BED7-B53F57823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B647AB-B5B3-42E5-82D8-08C194AF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914A1F-7C00-4019-84A5-8E689A8A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4C6A06-FAB0-4E61-A18F-BA74E1F5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0C1021-EACD-4E07-BB66-2498681D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5B5F-FA72-4345-81C9-9515265E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D3B899-9958-47C7-9E8C-0B946DFA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066BDD-C777-40B0-8100-4BF4FAA2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190EA7-065E-46B3-8286-86D4FA86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D4041A-72E0-4FA6-B8CB-EE96E4D1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794A68-0E8E-4887-9CB3-8A2A2CBD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A11779-7F96-47A0-A87C-A434318A8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BAFE10-2B64-4356-A29E-86784C6A0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BCA297-EB8C-4DB4-93F1-40E30B5F7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A236F1-C525-4207-9337-4EF0721D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5CEFDA-46DE-40BD-B672-B63C55C0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C1AD-9E4D-4403-91B9-399303A7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FA2F66-68C1-43E8-81D1-B91700E7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B00843-4A26-4FA3-AA3C-1791FD66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7320E3-014C-4A8F-9256-D64F8C54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B1EC1D-B7C8-40BA-9160-7A7736BB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B9D155-018B-48A1-B811-4A346E7C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73AE31-5B6D-4D86-87DA-CFF67AFC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D5C2EE-AD14-4A26-A032-67E11EDF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5426F2-24BA-4336-A93B-BF0FF3C52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2B56FA-53AA-4A75-94D0-684638552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A22B0E-50C0-497C-978C-1E83AD578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6734-8A13-4B97-B7F8-8EB36E002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A13B9B-5EB4-40A3-8A66-50512955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39B3CF-EBF1-4582-BDF2-480F3A3B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9A6A3A-EA53-4478-A18C-2B749E14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D0736C-6FB8-4803-9F9A-5A546F2B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D08C9E-A00E-4434-9450-DA1E1FA7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15D478-5758-4ADA-983F-AB76B2CD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7E6B6C-5EBA-427B-B962-A5E6A523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6BA5BC-FF0B-4606-8DE3-2E09B762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2E2A88-0BCB-4DD2-BF7D-CF4E1211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7156C3-55BC-496A-8A0E-951A2A51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7458-A7BC-4697-BD24-5A59785F5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C1A7A6-172B-47C8-957F-AF4F562E7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D89D6A-765E-40AF-A422-9A9D32601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BA2E56-926D-4B01-A5DB-AFA7B8C2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1D4DE3-31C8-463D-A7FE-CA9D3AA4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BB197E-2583-48DD-BAB5-847C1DFB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689178-3C6A-47C9-88BB-C0301405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B321AA-D9A6-4C2A-971A-E5E75F41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BEC234-E89A-41BF-A8E2-5C663A84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899F1B-1CC1-4626-ABF9-F50A6690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F15E97-1B8E-43D4-96E5-FC33EAA1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9A1AB-5335-41E3-9E49-FB6000A20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6C72C1-DED5-4149-87D1-5A085B56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5E3C7C-65E8-43DD-A663-9CD80BEE8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8672FD-A78F-4399-9DBB-A4F55B2A1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6E413-9C69-485C-B5F7-0BD2F61B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0BCD3-46B8-4A83-961B-DB9FAEA0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E37EE-B8DF-4475-990F-1FC4F55E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C73F7-D763-4B94-BB56-D9BC5017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69EB-C75C-452B-BD1C-7F8344A0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CBC51-519A-4F64-816F-F890AA3D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C3131-C00E-4880-A065-F7F9A9C8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1101C-E0E2-4E51-8230-63769078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7854D-5A83-43A4-916D-5834031A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AA749-333F-4D36-B22A-F7D64D87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7EEFF-1C74-4974-9C2B-480D7EE16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87CAE-F624-4F9C-AF15-6E8964DD6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24EE0-4307-4DC7-B795-FFC855B2A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6946B-F39D-409B-983F-4621F74D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05714-A025-4EDF-BDF6-AF27810A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A850-27E6-4BB4-9414-BBBF7054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DDAEC-D77C-459B-AD25-6CE45AFF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3E5AC-6ECC-42BA-BA92-AD6B587A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55153-3F1A-455E-889E-F7827F0E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C7FDF-90D8-4403-BA56-C964CBF5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E228A-0ECC-4E20-B2AA-3FB9CE9A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18D57-1F30-45BC-B0B9-F41C83E7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D2649-506B-4EF4-8D88-862FDAEB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81105-1BED-419B-A543-20198102C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79FC7-157F-49FE-A6EF-0492325CB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7D9EF-827B-4BE1-8F09-31D8F98EE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AB11-0EED-4381-8E53-938F06BB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4759D-D693-469B-9180-89BA2B4C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B1AA3-24D1-4B67-B2D9-A7A50354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AA3F5-F7BE-4311-B060-4B52F35B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A9B22-3553-4687-BC4A-76407488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4D12D-27E8-4EBF-8AC6-F800A7E1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219AE-43C3-4DF4-9EB6-7F719633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55E47-8D8F-4689-8CEC-727199ED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09E40-A6B4-415C-9B1A-16561452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7387A-B4AA-4FD1-9A7E-3C35D2CE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B11F6-DECD-4A5A-8E06-3A8CB18FB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E4A8-6AB1-49B1-A952-DBEAF5B2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F74AB-F9EE-4529-9349-C8D1A0D16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C40DA-BDB2-4E4A-8D3C-D60AF9CB9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AA1F1-BD54-4020-AEB1-DDDDC3A4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A7F0E-2C30-4C9F-9A97-7AAEDCC0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9E120-0E28-4612-9689-37583B8A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A9B45-5DF9-4A94-99FD-2DF9552B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6B2D5-263C-4448-A395-B680378B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66B67-4316-44CB-9240-C4F88932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D7E3F-6E25-43FF-A434-A11DF4DD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61E88-E50B-4F9E-B535-376D33CF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70B9-8D60-4DEE-8F2D-FEE3AD9A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5B964-3D18-4D00-A0E3-067D71A8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48FA3-923A-4AF3-99DC-4F89D2879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8BC1B-89B5-40D2-B907-BD9AB3F9D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8360E-684A-40BF-B99B-5AAEAD385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0CC24-9150-4604-8289-4506A337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40D97-CAD5-4770-8250-5A423DD2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A1507-CE1B-4885-B289-61EC8923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47E2D-74D0-4F15-A852-495BE558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6563A-9D92-4997-8DE5-8834ABF3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9110B-4358-49A2-88F2-B27E7FBF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D20E-91E0-4C5D-A005-64C8CD91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296C4-42A4-4544-96F8-B45DF2D2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DE35C-85EB-479D-ACF6-A91D2800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31FF8-24EE-473A-97F3-9313E5C4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210A0-B948-427C-9040-99A15ED62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38C66-C527-440C-B9D5-7D54FBF18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B156C-1D52-4A59-B4D4-8F1187877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86F58-B84E-403C-AB17-9B808FC5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53A0E-9536-4794-AB47-DB9DB2EE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79AD3-6212-4740-BAD2-8C459AB8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C405E-B8F5-4827-B423-A614C653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B49D-31B4-474C-8A21-59F84396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B30AC-BC29-4D4C-AC84-3EABB972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A926E-D309-42E2-B7C0-9F2283F1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81930-9676-4B26-8BC1-9A6F2F37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827C9-9E57-4846-A342-B86D2F01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81DB3-7CDA-4E02-8938-C5F60496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4C360-2D14-4A48-A481-E04A8A6B5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A9FC0-68B1-4260-B678-3BF2FF163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2CF0E-AB06-4F82-997C-D435FFB92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DBD03-C403-4072-807D-43429B6F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E1621-BA24-439A-B363-06541EDB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EF25-105B-48F8-844C-CA85A524EC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CE91-8FF7-40D2-B9EE-BE93B11A96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112B-CA08-4439-B210-F97AD5AD4F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F62B-F9BA-4A0B-B246-EF52DD2D2D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FFC2-4043-4EBF-A535-5BBE043EAD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F3AE-A614-4A23-B5C0-345BAD2A54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3585-E614-40C4-9720-EE9BBB5127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2770-42BB-4A1F-B08F-18CBF46D95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97A2-2F76-4CBC-8583-FB971E1F56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579E-62C9-43E1-ACC4-747ABBB9A9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4E77-7FD1-4BA1-B156-067A709813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C5D9-9B53-42B0-9F16-1A69EE35DB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5B28-8D1C-4E14-AE59-990A10C38C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5B2C-C5F4-40C7-A696-E7C3D33C9F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1882-CA55-49B5-8BE6-126CDFF08E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3FD6-C0A4-497D-9CCA-4130DD4A54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DF01-8981-4344-92E1-DC899D8745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A294-C39B-4229-B1FA-DE94A11374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5D09-2740-4690-933E-D08D6F63EC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E65B-F139-4896-A2D4-36C102A277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2F4E-7822-4402-8620-9DF880CFE5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B91D-37AE-459A-8F52-652EE2A597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840C-DB5D-46CA-85E4-DAB100465D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A1B4-DE08-4264-B632-765E60DC61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31AB-75E7-4EC3-9B0F-AC3AF57288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8F97-F8CA-4B22-B956-76300893EE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F721-E05E-4994-A380-7DA9C85DEE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4C1E-8918-4AE1-866B-85CA2823D2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BEC3-A576-4A4F-8E6C-599E371125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E8B2-78CB-410C-9DDA-482C9B3F09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F051-534E-4943-AA85-5DD33C0BA7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DB74-19B7-4487-AA68-07F2EA7AA8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51BB-A985-4425-AE19-6E7F21C2D4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52B7-4571-48D7-BF85-7635DF1018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56BC-2A72-49B8-BDFF-FD22F31F94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1D3D-7447-4F21-9653-CC01E052E1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C408-647A-43A1-A465-DC829ED1AA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2844-BCD2-4A68-BD27-B08EB111B1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09D3-A8D8-42F3-BC97-B1526F0063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C823-096B-4E85-9568-57A770F381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157400" y="2976480"/>
            <a:ext cx="68292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69633" descr=""/>
          <p:cNvPicPr/>
          <p:nvPr/>
        </p:nvPicPr>
        <p:blipFill>
          <a:blip r:embed="rId1"/>
          <a:stretch/>
        </p:blipFill>
        <p:spPr>
          <a:xfrm>
            <a:off x="1781280" y="2147760"/>
            <a:ext cx="5581440" cy="25624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1692360" y="2205000"/>
            <a:ext cx="4967280" cy="4478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1692360" y="2852640"/>
            <a:ext cx="4967280" cy="447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1692360" y="3486240"/>
            <a:ext cx="4967280" cy="4474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1908000" y="4121280"/>
            <a:ext cx="5328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68609" descr=""/>
          <p:cNvPicPr/>
          <p:nvPr/>
        </p:nvPicPr>
        <p:blipFill>
          <a:blip r:embed="rId1"/>
          <a:stretch/>
        </p:blipFill>
        <p:spPr>
          <a:xfrm>
            <a:off x="395280" y="3697200"/>
            <a:ext cx="8535960" cy="1747800"/>
          </a:xfrm>
          <a:prstGeom prst="rect">
            <a:avLst/>
          </a:prstGeom>
          <a:ln w="0">
            <a:noFill/>
          </a:ln>
        </p:spPr>
      </p:pic>
      <p:pic>
        <p:nvPicPr>
          <p:cNvPr id="950" name="图片 68610" descr=""/>
          <p:cNvPicPr/>
          <p:nvPr/>
        </p:nvPicPr>
        <p:blipFill>
          <a:blip r:embed="rId2"/>
          <a:stretch/>
        </p:blipFill>
        <p:spPr>
          <a:xfrm>
            <a:off x="1042920" y="1270080"/>
            <a:ext cx="6943680" cy="19429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4529160" y="1557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4"/>
          <a:stretch/>
        </p:blipFill>
        <p:spPr>
          <a:xfrm>
            <a:off x="4572000" y="242100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5"/>
          <a:stretch/>
        </p:blipFill>
        <p:spPr>
          <a:xfrm>
            <a:off x="7236000" y="1441440"/>
            <a:ext cx="720720" cy="7635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6"/>
          <a:stretch/>
        </p:blipFill>
        <p:spPr>
          <a:xfrm>
            <a:off x="7308720" y="2290680"/>
            <a:ext cx="720720" cy="76356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7"/>
          <a:stretch/>
        </p:blipFill>
        <p:spPr>
          <a:xfrm>
            <a:off x="1835280" y="3860640"/>
            <a:ext cx="583920" cy="61920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8"/>
          <a:stretch/>
        </p:blipFill>
        <p:spPr>
          <a:xfrm>
            <a:off x="1835280" y="4638600"/>
            <a:ext cx="583920" cy="6192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9"/>
          <a:stretch/>
        </p:blipFill>
        <p:spPr>
          <a:xfrm>
            <a:off x="4788000" y="3933720"/>
            <a:ext cx="584280" cy="61920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10"/>
          <a:stretch/>
        </p:blipFill>
        <p:spPr>
          <a:xfrm>
            <a:off x="4572000" y="4653000"/>
            <a:ext cx="584280" cy="61920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11"/>
          <a:stretch/>
        </p:blipFill>
        <p:spPr>
          <a:xfrm>
            <a:off x="8172360" y="3860640"/>
            <a:ext cx="584280" cy="61920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12"/>
          <a:stretch/>
        </p:blipFill>
        <p:spPr>
          <a:xfrm>
            <a:off x="8172360" y="4610160"/>
            <a:ext cx="58428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43080" y="452520"/>
            <a:ext cx="8458200" cy="60008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843280" y="6021360"/>
            <a:ext cx="1152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图片 59410" descr=""/>
          <p:cNvPicPr/>
          <p:nvPr/>
        </p:nvPicPr>
        <p:blipFill>
          <a:blip r:embed="rId1"/>
          <a:stretch/>
        </p:blipFill>
        <p:spPr>
          <a:xfrm>
            <a:off x="642960" y="1695600"/>
            <a:ext cx="7858080" cy="34668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2"/>
          <a:stretch/>
        </p:blipFill>
        <p:spPr>
          <a:xfrm>
            <a:off x="2411280" y="4724280"/>
            <a:ext cx="1224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8373" descr=""/>
          <p:cNvPicPr/>
          <p:nvPr/>
        </p:nvPicPr>
        <p:blipFill>
          <a:blip r:embed="rId1"/>
          <a:stretch/>
        </p:blipFill>
        <p:spPr>
          <a:xfrm>
            <a:off x="657360" y="1628640"/>
            <a:ext cx="7829280" cy="36007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2340000" y="4724280"/>
            <a:ext cx="1152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7352" descr=""/>
          <p:cNvPicPr/>
          <p:nvPr/>
        </p:nvPicPr>
        <p:blipFill>
          <a:blip r:embed="rId1"/>
          <a:stretch/>
        </p:blipFill>
        <p:spPr>
          <a:xfrm>
            <a:off x="333360" y="1062000"/>
            <a:ext cx="8477280" cy="47340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3851280" y="5300640"/>
            <a:ext cx="1584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6324" descr=""/>
          <p:cNvPicPr/>
          <p:nvPr/>
        </p:nvPicPr>
        <p:blipFill>
          <a:blip r:embed="rId1"/>
          <a:stretch/>
        </p:blipFill>
        <p:spPr>
          <a:xfrm>
            <a:off x="690480" y="1052640"/>
            <a:ext cx="7763040" cy="3190680"/>
          </a:xfrm>
          <a:prstGeom prst="rect">
            <a:avLst/>
          </a:prstGeom>
          <a:ln w="0">
            <a:noFill/>
          </a:ln>
        </p:spPr>
      </p:pic>
      <p:pic>
        <p:nvPicPr>
          <p:cNvPr id="931" name="图片 56325" descr=""/>
          <p:cNvPicPr/>
          <p:nvPr/>
        </p:nvPicPr>
        <p:blipFill>
          <a:blip r:embed="rId2"/>
          <a:stretch/>
        </p:blipFill>
        <p:spPr>
          <a:xfrm>
            <a:off x="596880" y="4635360"/>
            <a:ext cx="6324480" cy="13147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1042920" y="2406600"/>
            <a:ext cx="4753080" cy="447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4"/>
          <a:stretch/>
        </p:blipFill>
        <p:spPr>
          <a:xfrm>
            <a:off x="971640" y="3054240"/>
            <a:ext cx="4752720" cy="4478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5"/>
          <a:stretch/>
        </p:blipFill>
        <p:spPr>
          <a:xfrm>
            <a:off x="971640" y="3673440"/>
            <a:ext cx="748800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6"/>
          <a:stretch/>
        </p:blipFill>
        <p:spPr>
          <a:xfrm>
            <a:off x="826920" y="5359320"/>
            <a:ext cx="4753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5301" descr=""/>
          <p:cNvPicPr/>
          <p:nvPr/>
        </p:nvPicPr>
        <p:blipFill>
          <a:blip r:embed="rId1"/>
          <a:stretch/>
        </p:blipFill>
        <p:spPr>
          <a:xfrm>
            <a:off x="285840" y="1519200"/>
            <a:ext cx="857232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4276" descr=""/>
          <p:cNvPicPr/>
          <p:nvPr/>
        </p:nvPicPr>
        <p:blipFill>
          <a:blip r:embed="rId1"/>
          <a:stretch/>
        </p:blipFill>
        <p:spPr>
          <a:xfrm>
            <a:off x="642960" y="1166760"/>
            <a:ext cx="7858080" cy="45244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2952720" cy="16556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3"/>
          <a:stretch/>
        </p:blipFill>
        <p:spPr>
          <a:xfrm>
            <a:off x="2268360" y="3716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4"/>
          <a:stretch/>
        </p:blipFill>
        <p:spPr>
          <a:xfrm>
            <a:off x="4859280" y="1484280"/>
            <a:ext cx="3241800" cy="16556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5"/>
          <a:stretch/>
        </p:blipFill>
        <p:spPr>
          <a:xfrm>
            <a:off x="6251400" y="3716280"/>
            <a:ext cx="552600" cy="4478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6"/>
          <a:stretch/>
        </p:blipFill>
        <p:spPr>
          <a:xfrm>
            <a:off x="1187280" y="5243400"/>
            <a:ext cx="5526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2231" descr=""/>
          <p:cNvPicPr/>
          <p:nvPr/>
        </p:nvPicPr>
        <p:blipFill>
          <a:blip r:embed="rId1"/>
          <a:stretch/>
        </p:blipFill>
        <p:spPr>
          <a:xfrm>
            <a:off x="309600" y="1190520"/>
            <a:ext cx="852480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1:51:08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